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6058F-CDB7-4814-9B04-610E5D29C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F2673-8DC2-4BBA-A97E-91DB52C9A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2"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93CE1-2E20-4879-8F64-BCFCA7C5E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6765A-666A-4E76-9B57-13063C569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D1BC6-3F93-4576-9EF9-74E9B7FB8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D50EA-E260-4147-AA1F-42E61630D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00A78-F206-4188-949A-FB526C98E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3"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4"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5E92E-63E6-4580-A530-C2EC93B4E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FC0D8-D139-4274-BCE6-8A2ECE054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38A1F-86CD-497D-BDE6-31ADB852B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0"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37345-FBAB-4CB8-A9FC-21C334297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BB9E7-62A6-4B0C-9DB9-7BC781F28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4"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B453D-9CDA-42CF-A46A-22FFCAD17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8"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DC0FA-2090-4847-924F-4A2B019F1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0"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1"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F4F77-D999-4BC1-ADD1-BC49F2393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6"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2C5F3-A060-4753-8AF4-6E653262B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8"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3"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9280B-2685-402B-BFE6-8FE059270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C92C35-8F81-4B73-A32D-5B6635040A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0"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40B4D4-0F4D-451C-88C5-FEC8EA7F7F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B4631A-5A74-45A7-BEF8-BF88757E80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4"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5"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942FB3-83D8-4F60-BF17-0262A9730D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654241-3EF1-41E0-82DA-56C84A2035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E500D-72E2-4644-87C1-35175ED0A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endParaRPr b="0" lang="en-US" sz="32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23F4EC-DEE2-4204-BC57-EFFE6A5129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9"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0"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1"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0B6235-E5CA-4113-9BCE-8D6731C96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3"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5"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4D33B-E5D7-47BB-8CB0-7FF7611375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8"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9"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2FF2DE-B443-43E3-B2E4-CA1CDC0C0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1"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2"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81A6FF-803E-4587-8DB4-6EA927F7F2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4"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6"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7"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0DF006-1667-426B-AE57-EF3E06C92B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9"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0"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1"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2"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3"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4"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440DB0-F624-4C41-961A-D210F0436B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8ED863-BA8A-4090-9748-7F5388E844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1"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820BD1-9BB9-4AAB-9B00-22042453C8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3"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F0C7EB-9057-42DB-8790-2F0B39EE0E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95348-29B3-4F16-A6E5-0361F164B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B7E6D7-185F-4FDF-AE9A-57BD84BC3B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7857A8-6427-492A-894E-CD6927F8A7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endParaRPr b="0" lang="en-US" sz="32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A8DF27-CE35-4BC9-B4BB-61E8A25CAE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33BC75-0089-4F3E-9115-6F95CEE11D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4"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6"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39E282-2391-40E4-A87D-E45D2397FA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9"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0"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22AB0E-F149-49A3-8C14-7FF435391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2"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3"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A487C9-9EB8-411A-A14F-272BBC7EC9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8"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89E79B-62B0-40DB-A28C-A0E5224240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60"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1"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2"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3"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4"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5"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0037A7-2B96-44C1-A062-ABBE31FC0C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96C59-B2EB-4C36-A132-70DAF9129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81DDF-373F-4C2E-B356-5DC418A06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30B18-AC94-4960-9C2E-071DE0ED5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CA638-BBA6-4F6A-920B-D72BE2F7E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C37A0-4F21-4127-8F9B-67C169CE3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3B38-4214-44DB-8A3C-BD183C6448A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2E1C-B2E6-4BD3-989C-07A24CBC6BF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85"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0425-91FF-4215-8573-75FB90937C7B}"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952520"/>
            <a:ext cx="868680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2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12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12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06A2-7410-4281-BAA0-2CA035B16BCC}"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5f5f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5f5f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5f5f5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343400" y="1219320"/>
            <a:ext cx="49528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aising Entrepreneurial Capital </a:t>
            </a:r>
            <a:endParaRPr b="0" lang="en-US" sz="4000" spc="-1" strike="noStrike">
              <a:solidFill>
                <a:srgbClr val="000000"/>
              </a:solidFill>
              <a:latin typeface="Tahoma"/>
            </a:endParaRPr>
          </a:p>
        </p:txBody>
      </p:sp>
      <p:sp>
        <p:nvSpPr>
          <p:cNvPr id="167" name="PlaceHolder 2"/>
          <p:cNvSpPr>
            <a:spLocks noGrp="1"/>
          </p:cNvSpPr>
          <p:nvPr>
            <p:ph type="subTitle"/>
          </p:nvPr>
        </p:nvSpPr>
        <p:spPr>
          <a:xfrm>
            <a:off x="0" y="4952880"/>
            <a:ext cx="8686800" cy="1447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0808"/>
                </a:solidFill>
                <a:latin typeface="Tahoma"/>
              </a:rPr>
              <a:t> </a:t>
            </a:r>
            <a:r>
              <a:rPr b="1" lang="en-US" sz="3200" spc="-1" strike="noStrike">
                <a:solidFill>
                  <a:srgbClr val="080808"/>
                </a:solidFill>
                <a:latin typeface="Tahoma"/>
              </a:rPr>
              <a:t>Options in Venture Financing– </a:t>
            </a:r>
            <a:endParaRPr b="0" lang="en-US" sz="3200" spc="-1" strike="noStrike">
              <a:solidFill>
                <a:srgbClr val="080808"/>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arly Stage Equity Capital</a:t>
            </a:r>
            <a:r>
              <a:rPr b="0" lang="en-US" sz="3200" spc="-1" strike="noStrike">
                <a:solidFill>
                  <a:srgbClr val="080808"/>
                </a:solidFill>
                <a:latin typeface="Tahoma"/>
              </a:rPr>
              <a:t> </a:t>
            </a:r>
            <a:endParaRPr b="0" lang="en-US" sz="3200" spc="-1" strike="noStrike">
              <a:solidFill>
                <a:srgbClr val="080808"/>
              </a:solidFill>
              <a:latin typeface="Tahoma"/>
            </a:endParaRPr>
          </a:p>
        </p:txBody>
      </p:sp>
      <p:sp>
        <p:nvSpPr>
          <p:cNvPr id="168" name=""/>
          <p:cNvSpPr/>
          <p:nvPr/>
        </p:nvSpPr>
        <p:spPr>
          <a:xfrm>
            <a:off x="4343400" y="685800"/>
            <a:ext cx="2209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Verdana"/>
              </a:rPr>
              <a:t>Chapter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Niche</a:t>
            </a:r>
            <a:endParaRPr b="0" lang="en-US" sz="4400" spc="-1" strike="noStrike">
              <a:solidFill>
                <a:srgbClr val="080808"/>
              </a:solidFill>
              <a:latin typeface="Tahoma"/>
            </a:endParaRPr>
          </a:p>
        </p:txBody>
      </p:sp>
      <p:sp>
        <p:nvSpPr>
          <p:cNvPr id="18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gel investors generally provide seed or early stage capital, in amounts ranging from $50,000 to $2 million.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2 million commitment is seldom by one angel, but generally part of a pool.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is level of financing is typically used to get the firm to the next major milestone, for example product development or the signing of a major contract. </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haracteristics</a:t>
            </a:r>
            <a:endParaRPr b="0" lang="en-US" sz="4400" spc="-1" strike="noStrike">
              <a:solidFill>
                <a:srgbClr val="080808"/>
              </a:solidFill>
              <a:latin typeface="Tahoma"/>
            </a:endParaRPr>
          </a:p>
        </p:txBody>
      </p:sp>
      <p:sp>
        <p:nvSpPr>
          <p:cNvPr id="18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gels typically invest in technologies with which they are familiar.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gels tend to invest in businesses near their homes (one to two hour drive).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gel investors are usually willing to wait 5 to 7 years for a return on their investment. Most commonly that return is realized through the sale of the business to another company.</a:t>
            </a:r>
            <a:r>
              <a:rPr b="0" lang="en-US" sz="2400" spc="-1" strike="noStrike">
                <a:solidFill>
                  <a:srgbClr val="080808"/>
                </a:solidFill>
                <a:latin typeface="Tahoma"/>
              </a:rPr>
              <a:t>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Involvement of angels</a:t>
            </a:r>
            <a:endParaRPr b="0" lang="en-US" sz="4400" spc="-1" strike="noStrike">
              <a:solidFill>
                <a:srgbClr val="080808"/>
              </a:solidFill>
              <a:latin typeface="Tahoma"/>
            </a:endParaRPr>
          </a:p>
        </p:txBody>
      </p:sp>
      <p:sp>
        <p:nvSpPr>
          <p:cNvPr id="19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ome angels will invest in only one or very few ventures at the same time, in order to be more directly involved as an advisor.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thers use the start-up market as an alternative investment vehicle to the stock market and take a much more hands off approach.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gels are generally less formal and less public in their approach to investing than VC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US SBA sponsors:</a:t>
            </a:r>
            <a:endParaRPr b="0" lang="en-US" sz="4400" spc="-1" strike="noStrike">
              <a:solidFill>
                <a:srgbClr val="080808"/>
              </a:solidFill>
              <a:latin typeface="Tahoma"/>
            </a:endParaRPr>
          </a:p>
        </p:txBody>
      </p:sp>
      <p:sp>
        <p:nvSpPr>
          <p:cNvPr id="19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80808"/>
                </a:solidFill>
                <a:latin typeface="Tahoma"/>
              </a:rPr>
              <a:t>ACE-Net, </a:t>
            </a:r>
            <a:r>
              <a:rPr b="0" lang="en-US" sz="2800" spc="-1" strike="noStrike">
                <a:solidFill>
                  <a:srgbClr val="080808"/>
                </a:solidFill>
                <a:latin typeface="Tahoma"/>
              </a:rPr>
              <a:t>matches small companies looking for investors and investors looking for promising investment opportunities. </a:t>
            </a:r>
            <a:endParaRPr b="0" lang="en-US" sz="2800" spc="-1" strike="noStrike">
              <a:solidFill>
                <a:srgbClr val="080808"/>
              </a:solidFill>
              <a:latin typeface="Tahoma"/>
            </a:endParaRPr>
          </a:p>
          <a:p>
            <a:pPr marL="332640" indent="-3326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Small Business Investment Company (SBIC) program allows private investment partnerships (SBICs) to form venture capital funds by leveraging their initial investment capital with debt capital available to entrepreneurs through SBA guarantees. </a:t>
            </a:r>
            <a:endParaRPr b="0" lang="en-US" sz="2800" spc="-1" strike="noStrike">
              <a:solidFill>
                <a:srgbClr val="080808"/>
              </a:solidFill>
              <a:latin typeface="Tahoma"/>
            </a:endParaRPr>
          </a:p>
          <a:p>
            <a:pPr marL="332640" indent="-33264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Office of Technology of the SBA administers grants for Federal agencies.</a:t>
            </a:r>
            <a:r>
              <a:rPr b="0" lang="en-US" sz="2400" spc="-1" strike="noStrike">
                <a:solidFill>
                  <a:srgbClr val="080808"/>
                </a:solidFill>
                <a:latin typeface="Tahoma"/>
              </a:rPr>
              <a:t>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Valuation</a:t>
            </a:r>
            <a:endParaRPr b="0" lang="en-US" sz="4400" spc="-1" strike="noStrike">
              <a:solidFill>
                <a:srgbClr val="080808"/>
              </a:solidFill>
              <a:latin typeface="Tahoma"/>
            </a:endParaRPr>
          </a:p>
        </p:txBody>
      </p:sp>
      <p:sp>
        <p:nvSpPr>
          <p:cNvPr id="19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ntrepreneurs tend to minimize the risk involved in growing their venture into a successful enterprise.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vestors, on the other hand, tend to consider the risk more realistically and discount the value proposition accordingly.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us there is often a wide discrepancy between what the entrepreneur thinks the company is worth and what the outside investor think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Motivation</a:t>
            </a:r>
            <a:endParaRPr b="0" lang="en-US" sz="4400" spc="-1" strike="noStrike">
              <a:solidFill>
                <a:srgbClr val="080808"/>
              </a:solidFill>
              <a:latin typeface="Tahoma"/>
            </a:endParaRPr>
          </a:p>
        </p:txBody>
      </p:sp>
      <p:sp>
        <p:nvSpPr>
          <p:cNvPr id="19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ntrepreneurs understand that, at any valuation, the more funding they ask for, the higher the percentage of the business they will have to give up.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vestors realize however, that the financial agreement must leave company founders with enough ownership to provide incentive to make the business succeed.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t is unusual for an outside investor to want more than 40 –50% of the busines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arly stages</a:t>
            </a:r>
            <a:endParaRPr b="0" lang="en-US" sz="4400" spc="-1" strike="noStrike">
              <a:solidFill>
                <a:srgbClr val="080808"/>
              </a:solidFill>
              <a:latin typeface="Tahoma"/>
            </a:endParaRPr>
          </a:p>
        </p:txBody>
      </p:sp>
      <p:sp>
        <p:nvSpPr>
          <p:cNvPr id="19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evelopment/Conception: owner and the business are indistinguishable.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tartup: Facilities and equipment and employees are acquired to commence production.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arly growth: the business has a demonstrated workable business model.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ater stages</a:t>
            </a:r>
            <a:endParaRPr b="0" lang="en-US" sz="4400" spc="-1" strike="noStrike">
              <a:solidFill>
                <a:srgbClr val="080808"/>
              </a:solidFill>
              <a:latin typeface="Tahoma"/>
            </a:endParaRPr>
          </a:p>
        </p:txBody>
      </p:sp>
      <p:sp>
        <p:nvSpPr>
          <p:cNvPr id="20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ofitability and rapid growth: retained earnings and debt finance rapid growth. External equity capital may be supplied by angels or venture capital.</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aturity: Cash flow is positive, market penetration is good. No need for external financing.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tage and valuation</a:t>
            </a:r>
            <a:endParaRPr b="0" lang="en-US" sz="4400" spc="-1" strike="noStrike">
              <a:solidFill>
                <a:srgbClr val="080808"/>
              </a:solidFill>
              <a:latin typeface="Tahoma"/>
            </a:endParaRPr>
          </a:p>
        </p:txBody>
      </p:sp>
      <p:sp>
        <p:nvSpPr>
          <p:cNvPr id="20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business with revenue, even if operating at a loss, will usually receive a higher valuation than a company with </a:t>
            </a:r>
            <a:r>
              <a:rPr b="0" i="1" lang="en-US" sz="2800" spc="-1" strike="noStrike">
                <a:solidFill>
                  <a:srgbClr val="080808"/>
                </a:solidFill>
                <a:latin typeface="Tahoma"/>
              </a:rPr>
              <a:t>no product revenues, little expense history, and an incomplete management team.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ach successive stage commands higher valuations as the business achieves milestones, confirms the ability of the management team, and progresses in reducing fundamental risk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eed and concept stage financing </a:t>
            </a:r>
            <a:endParaRPr b="0" lang="en-US" sz="4400" spc="-1" strike="noStrike">
              <a:solidFill>
                <a:srgbClr val="080808"/>
              </a:solidFill>
              <a:latin typeface="Tahoma"/>
            </a:endParaRPr>
          </a:p>
        </p:txBody>
      </p:sp>
      <p:sp>
        <p:nvSpPr>
          <p:cNvPr id="20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o finance companies, the entrepreneur almost always starts with personal, relatives’, and friends’ money, and may then proceed to seeking informal investors, that is angel financing.</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raditional venture capital firms have little interest in funding a company at this stage. The risk level is too high, and the time for achieving a payout or harvest is hard to determin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quity capital</a:t>
            </a:r>
            <a:endParaRPr b="0" lang="en-US" sz="4400" spc="-1" strike="noStrike">
              <a:solidFill>
                <a:srgbClr val="080808"/>
              </a:solidFill>
              <a:latin typeface="Tahoma"/>
            </a:endParaRPr>
          </a:p>
        </p:txBody>
      </p:sp>
      <p:sp>
        <p:nvSpPr>
          <p:cNvPr id="17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80808"/>
                </a:solidFill>
                <a:latin typeface="Tahoma"/>
              </a:rPr>
              <a:t>Private equity</a:t>
            </a:r>
            <a:r>
              <a:rPr b="0" lang="en-US" sz="2800" spc="-1" strike="noStrike">
                <a:solidFill>
                  <a:srgbClr val="080808"/>
                </a:solidFill>
                <a:latin typeface="Tahoma"/>
              </a:rPr>
              <a:t> is any investment made, in exchange for ownership shares, in a company whose shares are not traded on a stock exchange. A private equity investor may be familiar with the management team and may be actively involved in the company.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80808"/>
                </a:solidFill>
                <a:latin typeface="Tahoma"/>
              </a:rPr>
              <a:t>Public equity</a:t>
            </a:r>
            <a:r>
              <a:rPr b="0" lang="en-US" sz="2800" spc="-1" strike="noStrike">
                <a:solidFill>
                  <a:srgbClr val="080808"/>
                </a:solidFill>
                <a:latin typeface="Tahoma"/>
              </a:rPr>
              <a:t> involves any sale of stock on a formal stock exchang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tartup stage financing</a:t>
            </a:r>
            <a:endParaRPr b="0" lang="en-US" sz="4400" spc="-1" strike="noStrike">
              <a:solidFill>
                <a:srgbClr val="080808"/>
              </a:solidFill>
              <a:latin typeface="Tahoma"/>
            </a:endParaRPr>
          </a:p>
        </p:txBody>
      </p:sp>
      <p:sp>
        <p:nvSpPr>
          <p:cNvPr id="20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ompanies at this stage commonly seek funding from angel investors, early-stage venture capital firms, and, in some cases, grants from foundations and government source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raditional venture capital firms may show an interest, assuming that a top-rated management team is assembled, patentability or proprietorship is proven, and rapid growth marketability is demonstrated.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apid growth stage financing</a:t>
            </a:r>
            <a:endParaRPr b="0" lang="en-US" sz="4400" spc="-1" strike="noStrike">
              <a:solidFill>
                <a:srgbClr val="080808"/>
              </a:solidFill>
              <a:latin typeface="Tahoma"/>
            </a:endParaRPr>
          </a:p>
        </p:txBody>
      </p:sp>
      <p:sp>
        <p:nvSpPr>
          <p:cNvPr id="20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5000"/>
          </a:bodyPr>
          <a:p>
            <a:pPr marL="32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Venture capital</a:t>
            </a:r>
            <a:r>
              <a:rPr b="0" i="1" lang="en-US" sz="3000" spc="-1" strike="noStrike">
                <a:solidFill>
                  <a:srgbClr val="080808"/>
                </a:solidFill>
                <a:latin typeface="Tahoma"/>
              </a:rPr>
              <a:t> </a:t>
            </a:r>
            <a:r>
              <a:rPr b="0" lang="en-US" sz="3000" spc="-1" strike="noStrike">
                <a:solidFill>
                  <a:srgbClr val="080808"/>
                </a:solidFill>
                <a:latin typeface="Tahoma"/>
              </a:rPr>
              <a:t>marketplace: </a:t>
            </a:r>
            <a:endParaRPr b="0" lang="en-US" sz="3000" spc="-1" strike="noStrike">
              <a:solidFill>
                <a:srgbClr val="080808"/>
              </a:solidFill>
              <a:latin typeface="Tahoma"/>
            </a:endParaRPr>
          </a:p>
          <a:p>
            <a:pPr marL="3258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25800" indent="-32580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ractical minimum investment for VCs is $3-5 million because of the considerable amount of due diligence required. </a:t>
            </a:r>
            <a:endParaRPr b="0" lang="en-US" sz="2800" spc="-1" strike="noStrike">
              <a:solidFill>
                <a:srgbClr val="080808"/>
              </a:solidFill>
              <a:latin typeface="Tahoma"/>
            </a:endParaRPr>
          </a:p>
          <a:p>
            <a:pPr marL="325800" indent="-32580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VCs demand highly developed business plans with detailed financial projections. </a:t>
            </a:r>
            <a:endParaRPr b="0" lang="en-US" sz="2800" spc="-1" strike="noStrike">
              <a:solidFill>
                <a:srgbClr val="080808"/>
              </a:solidFill>
              <a:latin typeface="Tahoma"/>
            </a:endParaRPr>
          </a:p>
          <a:p>
            <a:pPr marL="325800" indent="-32580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ir objective is to take a significant amount of venture ownership, keep a close rein on the firm, and achieve returns far larger than typical investment vehicle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Mature stage financing</a:t>
            </a:r>
            <a:endParaRPr b="0" lang="en-US" sz="4400" spc="-1" strike="noStrike">
              <a:solidFill>
                <a:srgbClr val="080808"/>
              </a:solidFill>
              <a:latin typeface="Tahoma"/>
            </a:endParaRPr>
          </a:p>
        </p:txBody>
      </p:sp>
      <p:sp>
        <p:nvSpPr>
          <p:cNvPr id="21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ezzanine, or “bridge,” financing</a:t>
            </a:r>
            <a:endParaRPr b="0" lang="en-US" sz="2800" spc="-1" strike="noStrike">
              <a:solidFill>
                <a:srgbClr val="080808"/>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80808"/>
                </a:solidFill>
                <a:latin typeface="Tahoma"/>
              </a:rPr>
              <a:t> </a:t>
            </a:r>
            <a:endParaRPr b="0" lang="en-US" sz="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ften a debt/equity hybrid used to allow the company to pursue the options in its exit strategy. </a:t>
            </a:r>
            <a:endParaRPr b="0" lang="en-US" sz="2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ay support transition to being acquired by one of the current stakeholders, or another company.</a:t>
            </a:r>
            <a:endParaRPr b="0" lang="en-US" sz="2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an also support some restructuring of ownership distribution where there are early investors who want to reduce or liquidate their position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Harvest Time</a:t>
            </a:r>
            <a:endParaRPr b="0" lang="en-US" sz="4400" spc="-1" strike="noStrike">
              <a:solidFill>
                <a:srgbClr val="080808"/>
              </a:solidFill>
              <a:latin typeface="Tahoma"/>
            </a:endParaRPr>
          </a:p>
        </p:txBody>
      </p:sp>
      <p:sp>
        <p:nvSpPr>
          <p:cNvPr id="21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vestors convert their stock to cash and claim the return on their investment, by: </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itial Public Offering (IPO) </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erger/Acquisition (M &amp; A)</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anagement buyout (MBO) by the management team or other insiders, or sale to outsider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rivate equity investors</a:t>
            </a:r>
            <a:endParaRPr b="0" lang="en-US" sz="4400" spc="-1" strike="noStrike">
              <a:solidFill>
                <a:srgbClr val="080808"/>
              </a:solidFill>
              <a:latin typeface="Tahoma"/>
            </a:endParaRPr>
          </a:p>
        </p:txBody>
      </p:sp>
      <p:sp>
        <p:nvSpPr>
          <p:cNvPr id="17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ook for an appropriate risk adjusted return on their investment. </a:t>
            </a:r>
            <a:endParaRPr b="0" lang="en-US" sz="3200" spc="-1" strike="noStrike">
              <a:solidFill>
                <a:srgbClr val="080808"/>
              </a:solidFill>
              <a:latin typeface="Tahoma"/>
            </a:endParaRPr>
          </a:p>
          <a:p>
            <a:pPr marL="3258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25800" indent="-32580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ome sort of “liquidity event” or exit strategy is generally called for to enable early stage investors to sell their shares and realize a return on their investment. </a:t>
            </a:r>
            <a:endParaRPr b="0" lang="en-US" sz="3200" spc="-1" strike="noStrike">
              <a:solidFill>
                <a:srgbClr val="080808"/>
              </a:solidFill>
              <a:latin typeface="Tahoma"/>
            </a:endParaRPr>
          </a:p>
          <a:p>
            <a:pPr marL="3258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25800" indent="-32580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xit strategy is important for any entrepreneur contemplating a private equity offering.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IPO </a:t>
            </a:r>
            <a:r>
              <a:rPr b="0" lang="en-US" sz="2000" spc="-1" strike="noStrike">
                <a:solidFill>
                  <a:srgbClr val="080808"/>
                </a:solidFill>
                <a:latin typeface="Tahoma"/>
              </a:rPr>
              <a:t>(Initial Public Offering)</a:t>
            </a:r>
            <a:r>
              <a:rPr b="0" lang="en-US" sz="4400" spc="-1" strike="noStrike">
                <a:solidFill>
                  <a:srgbClr val="080808"/>
                </a:solidFill>
                <a:latin typeface="Tahoma"/>
              </a:rPr>
              <a:t> is seldom a realistic option</a:t>
            </a:r>
            <a:endParaRPr b="0" lang="en-US" sz="4400" spc="-1" strike="noStrike">
              <a:solidFill>
                <a:srgbClr val="080808"/>
              </a:solidFill>
              <a:latin typeface="Tahoma"/>
            </a:endParaRPr>
          </a:p>
        </p:txBody>
      </p:sp>
      <p:sp>
        <p:nvSpPr>
          <p:cNvPr id="17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re is a capital gap for firms wishing to raise growth capital but that do not have the market share and revenue projections required for a public stock sale. </a:t>
            </a:r>
            <a:endParaRPr b="0" lang="en-US" sz="2800" spc="-1" strike="noStrike">
              <a:solidFill>
                <a:srgbClr val="080808"/>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Gap affects viable private businesses with steady growth prospects needing to raise from a few thousand dollars to $2 million. </a:t>
            </a:r>
            <a:endParaRPr b="0" lang="en-US" sz="2800" spc="-1" strike="noStrike">
              <a:solidFill>
                <a:srgbClr val="080808"/>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ithout high growth prospects there is little chance of a public stock offering, reducing exit opportunities for a potential investor.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fter family and friends, “angels”</a:t>
            </a:r>
            <a:endParaRPr b="0" lang="en-US" sz="4400" spc="-1" strike="noStrike">
              <a:solidFill>
                <a:srgbClr val="080808"/>
              </a:solidFill>
              <a:latin typeface="Tahoma"/>
            </a:endParaRPr>
          </a:p>
        </p:txBody>
      </p:sp>
      <p:sp>
        <p:nvSpPr>
          <p:cNvPr id="17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igh net worth individual investors</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gels invest in fifty times as many deals as venture capitalists, though in smaller amounts.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 the United States in 2002, approximately 300,000 angels invested $30 billion.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ngel role and characteristics</a:t>
            </a:r>
            <a:endParaRPr b="0" lang="en-US" sz="4400" spc="-1" strike="noStrike">
              <a:solidFill>
                <a:srgbClr val="080808"/>
              </a:solidFill>
              <a:latin typeface="Tahoma"/>
            </a:endParaRPr>
          </a:p>
        </p:txBody>
      </p:sp>
      <p:sp>
        <p:nvSpPr>
          <p:cNvPr id="17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7000"/>
          </a:bodyPr>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gels provide a bridge between friends and family financing and more formal venture capital. </a:t>
            </a:r>
            <a:endParaRPr b="0" lang="en-US" sz="2800" spc="-1" strike="noStrike">
              <a:solidFill>
                <a:srgbClr val="080808"/>
              </a:solidFill>
              <a:latin typeface="Tahoma"/>
            </a:endParaRPr>
          </a:p>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y partially serve the capital gap that is created by venture capital’s migration towards larger and larger deals. </a:t>
            </a:r>
            <a:endParaRPr b="0" lang="en-US" sz="2800" spc="-1" strike="noStrike">
              <a:solidFill>
                <a:srgbClr val="080808"/>
              </a:solidFill>
              <a:latin typeface="Tahoma"/>
            </a:endParaRPr>
          </a:p>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any are cashed out entrepreneurs. An angel investor might be a successful entrepreneur, a professional (e.g. doctor or lawyer) or a person with inherited wealth.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EC “accredited investors” </a:t>
            </a:r>
            <a:endParaRPr b="0" lang="en-US" sz="4400" spc="-1" strike="noStrike">
              <a:solidFill>
                <a:srgbClr val="080808"/>
              </a:solidFill>
              <a:latin typeface="Tahoma"/>
            </a:endParaRPr>
          </a:p>
        </p:txBody>
      </p:sp>
      <p:sp>
        <p:nvSpPr>
          <p:cNvPr id="18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net worth of $1 million,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r individual annual income greater than $200,000, or joint marital income greater than $300,000.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income requirements must have been met in each of the past two years and must be expected to continue.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inding angels</a:t>
            </a:r>
            <a:endParaRPr b="0" lang="en-US" sz="4400" spc="-1" strike="noStrike">
              <a:solidFill>
                <a:srgbClr val="080808"/>
              </a:solidFill>
              <a:latin typeface="Tahoma"/>
            </a:endParaRPr>
          </a:p>
        </p:txBody>
      </p:sp>
      <p:sp>
        <p:nvSpPr>
          <p:cNvPr id="18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rganizationally angels can range from </a:t>
            </a:r>
            <a:endParaRPr b="0" lang="en-US" sz="2800" spc="-1" strike="noStrike">
              <a:solidFill>
                <a:srgbClr val="080808"/>
              </a:solidFill>
              <a:latin typeface="Tahoma"/>
            </a:endParaRPr>
          </a:p>
          <a:p>
            <a:pPr lvl="1" marL="743040" indent="-2858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dividual investors operating alone, investing in one deal a year, </a:t>
            </a:r>
            <a:endParaRPr b="0" lang="en-US" sz="2800" spc="-1" strike="noStrike">
              <a:solidFill>
                <a:srgbClr val="080808"/>
              </a:solidFill>
              <a:latin typeface="Tahoma"/>
            </a:endParaRPr>
          </a:p>
          <a:p>
            <a:pPr lvl="1" marL="743040" indent="-2858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o highly structured LLCs that closely resemble venture capital partnerships. </a:t>
            </a:r>
            <a:endParaRPr b="0" lang="en-US" sz="2800" spc="-1" strike="noStrike">
              <a:solidFill>
                <a:srgbClr val="080808"/>
              </a:solidFill>
              <a:latin typeface="Tahoma"/>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ost angels prefer to operate fairly anonymously.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gels are increasingly banding together into angel network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Networks</a:t>
            </a:r>
            <a:endParaRPr b="0" lang="en-US" sz="4400" spc="-1" strike="noStrike">
              <a:solidFill>
                <a:srgbClr val="080808"/>
              </a:solidFill>
              <a:latin typeface="Tahoma"/>
            </a:endParaRPr>
          </a:p>
        </p:txBody>
      </p:sp>
      <p:sp>
        <p:nvSpPr>
          <p:cNvPr id="18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ormally meet once a month to hear pitches from firms seeking financing.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network serves simply as a forum to reduce search costs and any deals are done directly between interested investors and the entrepreneur.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ore formal networks have investors contribute an amount annually, say $50,000, into a common pool. The pool proceeds are then invested according to a majority vote of the investor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23:10:37Z</dcterms:created>
  <dc:creator>John B. Vinturella</dc:creator>
  <dc:description/>
  <dc:language>en-US</dc:language>
  <cp:lastModifiedBy>David McNaughton</cp:lastModifiedBy>
  <dcterms:modified xsi:type="dcterms:W3CDTF">2008-01-29T00:35:09Z</dcterms:modified>
  <cp:revision>32</cp:revision>
  <dc:subject/>
  <dc:title>Raising Entrepreneurial Capital </dc:title>
</cp:coreProperties>
</file>